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FOT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366-B870-4E8F-A087-C33CBF10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BB9-76AC-41B9-A3F3-2C0E646E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03B-16C3-4B55-B33B-2BB2601F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510-6381-4DB0-89D8-BAE9F3A7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0D3-D735-4F78-8B93-D3C5890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543-6C85-4B4D-8ABE-5C9F505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BAF-59CD-4CE1-877B-81F0E36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6D1-D75F-4C87-8302-A5E9228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BB4-7C7F-4C69-873A-3F97037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496-E73D-4F5C-96E7-96506E5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7D4-F35B-4165-818A-FCAAE10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87A-143A-4723-BFD2-9116ADC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783-8FC1-4A69-AD9C-FAA8AFC7C27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8000" y="6381720"/>
            <a:ext cx="15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Futura Hv BT"/>
              </a:rPr>
              <a:t>Il problema rifiuti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audio" Target="../media/FOTO.WAV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audio" Target="../media/FOTO.WAV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audio" Target="../media/FOTO.WAV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1625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9900"/>
                </a:solidFill>
                <a:latin typeface="Futura Hv BT"/>
              </a:rPr>
              <a:t>Il “problema” rifiu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Futura Hv BT"/>
              </a:rPr>
              <a:t>Augusta (SR)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51F-5274-48F5-AF5D-7B244E882B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45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quali scambi con l’ambiente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che li accogli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quali effetti producono sull’ambiente questi scamb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come si modifica il “contesto”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6200" y="907920"/>
            <a:ext cx="8209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3/inqu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87600" y="4556160"/>
            <a:ext cx="233676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7C2-96E3-4884-A74E-6B1E86856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30200" y="1538280"/>
            <a:ext cx="82454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Ridurre la produzione di rifiuti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e la loro pericolos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Recuperare materia dai rifiuti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(riutilizzo e riciclagg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Recuperare energia dai rifiu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Smaltire i rifiuti in sicurez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66200" y="83628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Gli obiettivi per risolvere il probl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436-5325-4F83-A710-A12DDA7CB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0200" y="1628280"/>
            <a:ext cx="824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sviluppare tecnologie pulite con risparmio di risorse natur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realizzare prodotti che contribuiscono il meno possibile alla produzione di rifiuti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eliminare sostanze pericol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sensibilizzare e informare i cittadi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66200" y="909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Ridurre i rifi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799-FEFC-4712-9E05-2D1B363FE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0200" y="1611360"/>
            <a:ext cx="824544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recuperare e riciclare i materia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individuare altre forme di recupero per ottenere materia prima dai rifiu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favorire il mercato dei materiali ricicl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utilizzare i rifiuti come “combustibile”per produrre ener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66200" y="907920"/>
            <a:ext cx="8209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Recuperare i rifi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06E-53EF-4A59-8D28-2BBED81E39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0200" y="1611000"/>
            <a:ext cx="824544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Futura Hv BT"/>
              </a:rPr>
              <a:t>riciclare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= rimettere nel ciclo produttivo il materi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Futura Hv BT"/>
              </a:rPr>
              <a:t>riutilizzare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= utilizzare nuovamente un prodotto (aggiustarlo, riempirlo,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0000"/>
              </a:lnSpc>
              <a:spcBef>
                <a:spcPts val="28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Futura Hv BT"/>
              </a:rPr>
              <a:t>recuperare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= utilizzare ciò che andrebbe perduto (compost, ma anche energ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6200" y="909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Chiarire i ter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08A-5044-4D03-9B78-EC51CAD83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200" y="83628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Produzione di rifiuti nell’Unione Europea</a:t>
            </a:r>
            <a:br>
              <a:rPr sz="3200"/>
            </a:br>
            <a:r>
              <a:rPr b="1" lang="it-IT" sz="2000" spc="-1" strike="noStrike">
                <a:solidFill>
                  <a:srgbClr val="009900"/>
                </a:solidFill>
                <a:latin typeface="Futura Hv BT"/>
              </a:rPr>
              <a:t>(</a:t>
            </a:r>
            <a:r>
              <a:rPr b="1" i="1" lang="it-IT" sz="2000" spc="-1" strike="noStrike">
                <a:solidFill>
                  <a:srgbClr val="009900"/>
                </a:solidFill>
                <a:latin typeface="Futura Hv BT"/>
              </a:rPr>
              <a:t>kg per abitante ogni ann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0008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021-E886-4E6D-AC4E-175F37533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200" y="909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Produzione rifiuti in Sici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5360" y="1403280"/>
            <a:ext cx="8153280" cy="47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341-2821-4BAB-AC58-6D768D64C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Cosa c’è nei rifi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6905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utura Hv BT"/>
              </a:rPr>
              <a:t>Composizione media di rifiuti in un sacco di spazzatura di Augu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1557360"/>
          <a:ext cx="7921800" cy="477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79218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280-9552-4F0B-8EF2-86FE2AAF8A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909360"/>
            <a:ext cx="8659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La Raccolta Differenz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0200" y="1755720"/>
            <a:ext cx="824544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15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separare i rifiuti al momento del conferi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5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vantaggi qualita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15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vantaggi tecnologici/econom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288-5D26-41C7-A1B9-328FF940AD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200" y="907920"/>
            <a:ext cx="8209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Cosa si differenz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4840" y="1704960"/>
            <a:ext cx="875988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796-A768-4D17-9BFC-B9AFCFE9EB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7560"/>
            <a:ext cx="7772400" cy="244944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rebuchet MS"/>
              </a:rPr>
              <a:t>Questo strumento didattico rientra nel progetto di comunicazione dell’Amministrazione comunale per migliorare la qualità ambientale di Augu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rebuchet MS"/>
              </a:rPr>
              <a:t>E’ un progetto che vede come protagonisti i cittadini e il loro desiderio di vivere in una città più b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2920" y="6313320"/>
            <a:ext cx="428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La Raccolta Differenziata dei rifiut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9B2-F135-44FA-A722-80E82E66C6CC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844640"/>
            <a:ext cx="8207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ccolta stradale con </a:t>
            </a:r>
            <a:r>
              <a:rPr b="1" lang="it-IT" sz="2000" spc="-1" strike="noStrike">
                <a:solidFill>
                  <a:srgbClr val="009900"/>
                </a:solidFill>
                <a:latin typeface="Tahoma"/>
              </a:rPr>
              <a:t>contenitori per carta e cartone, plasti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ccolta stradale </a:t>
            </a:r>
            <a:r>
              <a:rPr b="1" lang="it-IT" sz="2000" spc="-1" strike="noStrike">
                <a:solidFill>
                  <a:srgbClr val="009900"/>
                </a:solidFill>
                <a:latin typeface="Tahoma"/>
              </a:rPr>
              <a:t>vetro e latti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Tahoma"/>
              </a:rPr>
              <a:t>raccolta domiciliare presso i </a:t>
            </a:r>
            <a:r>
              <a:rPr b="1" i="1" lang="it-IT" sz="2000" spc="-1" strike="noStrike">
                <a:solidFill>
                  <a:srgbClr val="009900"/>
                </a:solidFill>
                <a:latin typeface="Tahoma"/>
              </a:rPr>
              <a:t>commerciant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l centro storico di carta e carton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contenitori dedicati alla RD saranno organizzati in </a:t>
            </a:r>
            <a:r>
              <a:rPr b="1" lang="it-IT" sz="2000" spc="-1" strike="noStrike">
                <a:solidFill>
                  <a:srgbClr val="009900"/>
                </a:solidFill>
                <a:latin typeface="Tahoma"/>
              </a:rPr>
              <a:t>165 Punti di Raccolta Ecologic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dislocati in funzione dei cittadini che gravitano in una certa zon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biettivo: raggiungere il 35% di RD sul totale rifiuti nel 201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3534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oudySans Blk BT"/>
              </a:rPr>
              <a:t> </a:t>
            </a:r>
            <a:r>
              <a:rPr b="0" lang="it-IT" sz="3200" spc="-1" strike="noStrike">
                <a:solidFill>
                  <a:srgbClr val="009900"/>
                </a:solidFill>
                <a:latin typeface="Futura Hv BT"/>
              </a:rPr>
              <a:t>La raccolta differenziata cura l’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00"/>
                </a:solidFill>
                <a:latin typeface="Futura Hv BT"/>
              </a:rPr>
              <a:t>(il nuovo servizio ad Augu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26C-383A-43D3-89EC-A2606A4821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162920" cy="367200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Futura Hv BT"/>
              </a:rPr>
              <a:t>Buona raccolta differenziata a Voi e alle Vostre famiglie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1D9-2BAC-4AD7-87DA-7AFCEE3D2E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771560"/>
            <a:ext cx="7772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Il territorio di Augusta  è un’area con una delicata situazione ambient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Da alcuni anni si sta cercando di migliorare la qualità dell’ambiente, per vivere in un luogo più bello, più pulito e più s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L’Amministrazione comunale, tra le varie iniziative, ha deciso di attivare un nuovo servizio per la raccolta differenziata dei rifiuti, con la certezza che ogni cittadino, famiglia e attività commerciale possano dare un importante contributo per vivere meglio e rendere la città più bell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880920"/>
            <a:ext cx="864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oudySans Blk BT"/>
              </a:rPr>
              <a:t> </a:t>
            </a: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Il Comune di Augusta e il tema dei rifiu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C8E-81E0-4F2A-A02D-843A8EE8FA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Grazie al sostegno fornito della società pubblica che gestisce la discarica a Cave di Costa Gigia (Greenambiente), l’Amministrazione comunale di Augusta vuo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ridurre la produzione dei rifiuti prodotti e avviati in discari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aumentare le quantità dei materiali (carta, plastica, vetro e lattine) da recuperar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attivare iniziative di educazione ambientale per salvaguardare l’amb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880920"/>
            <a:ext cx="85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La raccolta differenziata cura l’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9E6-397C-4A95-9804-C8FF92FD21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899720"/>
            <a:ext cx="79930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Futura Hv BT"/>
              </a:rPr>
              <a:t>rifiut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sporchi, inutili, brutti, senza val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Futura Hv BT"/>
              </a:rPr>
              <a:t>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ogni processo biologico dà origine a scar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non è una perdita, ma una risorsa da valorizz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Rifiuto o non rifiu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6CA-D063-4BB0-8982-76443A328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971720"/>
            <a:ext cx="82454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umenta la popolazione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che produce rifiuti, quind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.aumenta la produzione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pro capite di rifiu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Cambia la composizione dei rifiuti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(es.: la plastica non è biodegradabil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umentano le merci “usa e gett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Nelle nostre città cambia il rapporto uomo/rifi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AA2-0A07-4DBE-9143-5EE3E9AB4B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611000"/>
            <a:ext cx="82454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Futura Hv BT"/>
              </a:rPr>
              <a:t>NO, almen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9900"/>
                </a:solidFill>
                <a:latin typeface="Futura Hv BT"/>
              </a:rPr>
              <a:t>ingombr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Futura Hv BT"/>
              </a:rPr>
              <a:t>sprec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Futura Hv BT"/>
              </a:rPr>
              <a:t>  </a:t>
            </a:r>
            <a:r>
              <a:rPr b="1" lang="it-IT" sz="5400" spc="-1" strike="noStrike">
                <a:solidFill>
                  <a:srgbClr val="009900"/>
                </a:solidFill>
                <a:latin typeface="Futura Hv BT"/>
              </a:rPr>
              <a:t>inquinamen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6200" y="98064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I rifiuti sono un problema?</a:t>
            </a:r>
            <a:r>
              <a:rPr b="0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81080" y="2924280"/>
            <a:ext cx="2403720" cy="35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6EA-E0DE-4D11-9192-B54054386A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611000"/>
            <a:ext cx="82454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Dove mettere i rifiut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Come ridurre il loro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40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Trasportarli e smaltirli costa (attrezzature, automezzi, addett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6200" y="909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1/Ingombro</a:t>
            </a:r>
            <a:r>
              <a:rPr b="0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24000" y="5445000"/>
            <a:ext cx="977760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CB7-6057-4A74-A579-D6177F2667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45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cosa buttiamo nei rifiut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c’è ancora qualcosa di buon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nei rifiut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21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aggiustare o cambia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66200" y="907920"/>
            <a:ext cx="8209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2/Spreco</a:t>
            </a:r>
            <a:r>
              <a:rPr b="0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440" y="4724280"/>
            <a:ext cx="870264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914-C01F-4F28-B3DF-D0287B469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8:11:59Z</dcterms:created>
  <dc:creator>Mariani Alessandro</dc:creator>
  <dc:description/>
  <dc:language>en-US</dc:language>
  <cp:lastModifiedBy>Mazzata</cp:lastModifiedBy>
  <dcterms:modified xsi:type="dcterms:W3CDTF">2008-04-16T06:01:30Z</dcterms:modified>
  <cp:revision>295</cp:revision>
  <dc:subject/>
  <dc:title>I servizi alle scuole</dc:title>
</cp:coreProperties>
</file>