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FOTO.WAV" ContentType="audio/x-wav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EBA-46CC-4C55-BA7F-29A99C6E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00E-41A0-4DA8-AE4C-76F9BBF9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E38-EA73-425A-8A19-ABB620A0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A85-D7EA-4349-ACF7-383E2CDD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21E-D939-4E66-BA8D-E4089F3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FE9-251D-43F6-A38A-830366D1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3D5-893D-4E1D-80D5-E12F64BC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CDA-DE67-4FA6-A26F-CD54304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7F4-8FAF-422B-BC54-940FB077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A42-DCA5-4DE7-BF80-CDE52EA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7F9-0329-4E5E-9470-E62835B7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97D-28CD-42AC-8C05-ACEE04D1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DF1-1B99-481E-A6E5-C5F9AC62084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53360"/>
            <a:ext cx="24843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Futura Hv BT"/>
              </a:rPr>
              <a:t>Impronta ecologica e rifiu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OTO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1625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9900"/>
                </a:solidFill>
                <a:latin typeface="Futura Hv BT"/>
              </a:rPr>
              <a:t>Rifiuti e Impron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9900"/>
                </a:solidFill>
                <a:latin typeface="Futura Hv BT"/>
              </a:rPr>
              <a:t>Ecolog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Au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gusta (SR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6560" y="1413000"/>
            <a:ext cx="8498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80808"/>
                </a:solidFill>
                <a:latin typeface="Futura Hv BT"/>
              </a:rPr>
              <a:t>Proviamo con un test – uno dei più semplici – per misurare la nostra Impronta Ecolo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80808"/>
                </a:solidFill>
                <a:latin typeface="Futura Hv BT"/>
              </a:rPr>
              <a:t>Scopriamo insieme quali gesti e oggetti “consumano” di più il nostro pian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512360" y="765000"/>
            <a:ext cx="5867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9900"/>
                </a:solidFill>
                <a:latin typeface="Futura Hv BT"/>
              </a:rPr>
              <a:t>Facciamo i cont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429000"/>
            <a:ext cx="849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0808"/>
                </a:solidFill>
                <a:latin typeface="Futura Hv BT"/>
              </a:rPr>
              <a:t>E’sufficiente rispondere alle domande di seguito prop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Futura Hv BT"/>
              </a:rPr>
              <a:t>Dopo la risposta, comparirà un numero, che corrisponde alla misura dell’Impro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0808"/>
                </a:solidFill>
                <a:latin typeface="Futura Hv BT"/>
              </a:rPr>
              <a:t>Alla fine del quiz, basta sommare il totale del punteggio e verificare qual è l’Impronta</a:t>
            </a:r>
            <a:r>
              <a:rPr b="1" lang="it-IT" sz="2800" spc="-1" strike="noStrike">
                <a:solidFill>
                  <a:srgbClr val="080808"/>
                </a:solidFill>
                <a:latin typeface="Futura Hv BT"/>
              </a:rPr>
              <a:t> </a:t>
            </a:r>
            <a:r>
              <a:rPr b="1" lang="it-IT" sz="2400" spc="-1" strike="noStrike">
                <a:solidFill>
                  <a:srgbClr val="080808"/>
                </a:solidFill>
                <a:latin typeface="Futura Hv BT"/>
              </a:rPr>
              <a:t>Ecologica pers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7129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Quante persone vivono con 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Futura Hv BT"/>
              </a:rPr>
              <a:t>5 o p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225080" y="765000"/>
            <a:ext cx="5867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Gill Sans MT"/>
              </a:rPr>
              <a:t>1 -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5903640" cy="3902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7280" y="1773360"/>
            <a:ext cx="259236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3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10 punti)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421080" cy="5111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40000" y="1052280"/>
            <a:ext cx="4824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In che modo è riscaldata la cas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Gas natural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Elettricit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Olio combustibi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Energia rinnovabil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936720" y="69336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Gill Sans MT"/>
              </a:rPr>
              <a:t>2 -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2817720"/>
            <a:ext cx="244620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3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4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5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0 punti)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6760" y="1628640"/>
            <a:ext cx="2919240" cy="4104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64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Quanto sei attento al consumo di acqua?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Mi preoccupo sempre di chiudere bene i rubinetti e di non sprecare acqu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Qualche volta dimentico aperto il rubinetto o lascio scorrere l’acqua senza utilizzar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Non mi preoccupo mai del consumo di acqua, nel mio paese non ci sono problemi di siccit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1081080" y="765000"/>
            <a:ext cx="58672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3-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628640"/>
            <a:ext cx="2303640" cy="41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5 punti)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1198080"/>
            <a:ext cx="8497800" cy="20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In che tipo di casa abiti?</a:t>
            </a:r>
            <a:r>
              <a:rPr b="0" lang="it-IT" sz="28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Appartamento/condomi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Villet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081080" y="765000"/>
            <a:ext cx="58672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4 -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2360" y="1700280"/>
            <a:ext cx="2592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4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15937" r="0" b="13445"/>
          <a:stretch/>
        </p:blipFill>
        <p:spPr>
          <a:xfrm>
            <a:off x="-36360" y="3181320"/>
            <a:ext cx="6624360" cy="312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8644" t="25701" r="1712" b="0"/>
          <a:stretch/>
        </p:blipFill>
        <p:spPr>
          <a:xfrm>
            <a:off x="2987640" y="2060640"/>
            <a:ext cx="5977080" cy="3538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414080"/>
            <a:ext cx="7201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Quante volte alla settimana mangi carne o pes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4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Più di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58436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Futura Hv BT"/>
              </a:rPr>
              <a:t>5 - Alimen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2351160"/>
            <a:ext cx="259236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3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50 punti)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0" t="2112" r="0" b="0"/>
          <a:stretch/>
        </p:blipFill>
        <p:spPr>
          <a:xfrm>
            <a:off x="3576600" y="2421000"/>
            <a:ext cx="5099040" cy="3301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270080"/>
            <a:ext cx="7272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Quanti pasti cucini “in casa”</a:t>
            </a: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Futura Hv BT"/>
              </a:rPr>
              <a:t>(in una settimana compresi quelli portati a scuola)?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40000"/>
              </a:lnSpc>
              <a:spcBef>
                <a:spcPts val="2801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Meno di 1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40000"/>
              </a:lnSpc>
              <a:spcBef>
                <a:spcPts val="2801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10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40000"/>
              </a:lnSpc>
              <a:spcBef>
                <a:spcPts val="2801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14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40000"/>
              </a:lnSpc>
              <a:spcBef>
                <a:spcPts val="2801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Più di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584360" y="765000"/>
            <a:ext cx="58672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6 - Ali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2133720"/>
            <a:ext cx="259236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10 pun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92680" y="1916280"/>
            <a:ext cx="3595680" cy="433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49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Quando acquisti alimenti preferisci</a:t>
            </a:r>
            <a:br>
              <a:rPr sz="2800"/>
            </a:b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i prodotti di stagi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Qualche vo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Rar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Non lo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368000" y="83628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7 - Ali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2349360"/>
            <a:ext cx="259236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5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25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20 pu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15 punti)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792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Quanti acquisti importanti </a:t>
            </a:r>
            <a:r>
              <a:rPr b="1" i="1" lang="it-IT" sz="2000" spc="-1" strike="noStrike">
                <a:solidFill>
                  <a:srgbClr val="000000"/>
                </a:solidFill>
                <a:latin typeface="Futura Hv BT"/>
              </a:rPr>
              <a:t>(stereo, televisore, computer, automobile, mobili, elettrodomestici)</a:t>
            </a: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 hai fatto nel corso degli ultimi 12 me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4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Più di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0980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8 - Acqu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2997360"/>
            <a:ext cx="3816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30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+45 punt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Hai acquistato articoli a risparmio energetico negli ultimi 12 me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68000" y="83628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9 - Acqu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3068640"/>
            <a:ext cx="2592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(+25 punti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7560"/>
            <a:ext cx="7772400" cy="2449440"/>
          </a:xfrm>
          <a:prstGeom prst="rect">
            <a:avLst/>
          </a:prstGeom>
          <a:solidFill>
            <a:srgbClr val="3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rebuchet MS"/>
              </a:rPr>
              <a:t>Questo strumento didattico rientra nel progetto di comunicazione dell’Amministrazione comunale per migliorare la qualità ambientale di Augu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rebuchet MS"/>
              </a:rPr>
              <a:t>E’ un progetto che vede come protagonisti i cittadini e il loro desiderio di vivere in una città più b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16232" r="0" b="0"/>
          <a:stretch/>
        </p:blipFill>
        <p:spPr>
          <a:xfrm>
            <a:off x="5435640" y="1341360"/>
            <a:ext cx="3567240" cy="4464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Se hai un mezzo qual è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Biciclet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Motorino o Scoote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Automobile pic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Monovolume o familiare </a:t>
            </a:r>
            <a:br>
              <a:rPr sz="2600"/>
            </a:b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o fuoristrad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441440" y="765000"/>
            <a:ext cx="58672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Futura Hv BT"/>
              </a:rPr>
              <a:t>10  - Traspor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2205000"/>
            <a:ext cx="23749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+25 pun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+40 pun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+100 punt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17737" r="36627" b="0"/>
          <a:stretch/>
        </p:blipFill>
        <p:spPr>
          <a:xfrm>
            <a:off x="4611600" y="1916280"/>
            <a:ext cx="4208400" cy="3673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Come vai a scuola/lavo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In automo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Con i mezzi pubbl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Con uno scuolab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A pied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In bicicletta o roll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152000" y="83628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1  - Traspo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30400"/>
            <a:ext cx="1942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5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0 pu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Dove hai passato le vacanze nel corso dell'ultimo an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Niente vacanz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Nella mia regio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In Italia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In Europ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In un altro contin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8436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2  - Traspo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6234"/>
          <a:stretch/>
        </p:blipFill>
        <p:spPr>
          <a:xfrm>
            <a:off x="5148360" y="1916280"/>
            <a:ext cx="3384360" cy="432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0" y="2604960"/>
            <a:ext cx="259236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3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4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70 pu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105408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Quante volte utilizzi l'automobile in un fine setti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1-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4-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7-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Più di 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8108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3  - Traspo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2349360"/>
            <a:ext cx="259236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3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40 pu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0" r="0" b="3421"/>
          <a:stretch/>
        </p:blipFill>
        <p:spPr>
          <a:xfrm>
            <a:off x="4356000" y="2016000"/>
            <a:ext cx="4048200" cy="4292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4920" y="105408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Quanti sacchi della spazzatura produci ogni settim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Mezzo sacc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1 sacc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Più di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47280" y="83628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4  - Rifi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2278080"/>
            <a:ext cx="2592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0 punti) (+30 pu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211640" y="2060640"/>
            <a:ext cx="4248000" cy="4208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105408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Ricicli i giornali, le lattine, le bottiglie di vetro e quelle di plasti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Semp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Qualche vo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Rara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M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65744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5  - Rifi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276640"/>
            <a:ext cx="2592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0 pu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0" t="16057" r="0" b="0"/>
          <a:stretch/>
        </p:blipFill>
        <p:spPr>
          <a:xfrm>
            <a:off x="5003640" y="2016000"/>
            <a:ext cx="3410280" cy="4292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Futura Hv BT"/>
              </a:rPr>
              <a:t>Fai la riduzione dei rifiuti</a:t>
            </a: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Futura Hv BT"/>
              </a:rPr>
              <a:t>(per esempio preferisci imballaggi o i contenitori riutilizzabili)</a:t>
            </a:r>
            <a:r>
              <a:rPr b="1" i="1" lang="it-IT" sz="3200" spc="-1" strike="noStrike">
                <a:solidFill>
                  <a:srgbClr val="000000"/>
                </a:solidFill>
                <a:latin typeface="Futura Hv BT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Sempr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Qualche vol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Rarament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Futura Hv BT"/>
              </a:rPr>
              <a:t>Ma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47636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6  - Rifi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4920" y="2625840"/>
            <a:ext cx="2592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0560" y="2060640"/>
            <a:ext cx="3889080" cy="4221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Prepari il compost con i rifiuti della frutta e della verd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Semp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Qualche vo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Rara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M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512360" y="83628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9900"/>
                </a:solidFill>
                <a:latin typeface="Futura Hv BT"/>
              </a:rPr>
              <a:t>17  - Rifi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2697120"/>
            <a:ext cx="2592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0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15 punt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(+20 punt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Futura Hv BT"/>
              </a:rPr>
              <a:t>Meno di 150 punti</a:t>
            </a: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: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impronta ecologica inferiore a 2 ett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Futura Hv BT"/>
              </a:rPr>
              <a:t>150 - 350</a:t>
            </a: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: tra 2 e 4 ettari 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Futura Hv BT"/>
              </a:rPr>
              <a:t>(la maggior parte degli italiani)</a:t>
            </a: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Futura Hv BT"/>
              </a:rPr>
              <a:t>350 - 550</a:t>
            </a: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: tra 4 e 6 ett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ff0000"/>
              </a:buClr>
              <a:buFont typeface="Futura Hv B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Futura Hv BT"/>
              </a:rPr>
              <a:t>550 - 750</a:t>
            </a:r>
            <a:r>
              <a:rPr b="1" lang="it-IT" sz="2400" spc="-1" strike="noStrike">
                <a:solidFill>
                  <a:srgbClr val="000000"/>
                </a:solidFill>
                <a:latin typeface="Futura Hv BT"/>
              </a:rPr>
              <a:t>: tra 6 e 10 ettar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657440" y="836280"/>
            <a:ext cx="5867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Futura Hv BT"/>
              </a:rPr>
              <a:t>Ris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Nazioni che “consumano” </a:t>
            </a:r>
            <a:r>
              <a:rPr b="1" i="1" lang="it-IT" sz="2600" spc="-1" strike="noStrike">
                <a:solidFill>
                  <a:srgbClr val="ff0000"/>
                </a:solidFill>
                <a:latin typeface="Futura Hv BT"/>
              </a:rPr>
              <a:t>troppo</a:t>
            </a: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 pianeta </a:t>
            </a:r>
            <a:r>
              <a:rPr b="1" lang="it-IT" sz="2600" spc="-1" strike="noStrike">
                <a:solidFill>
                  <a:srgbClr val="669900"/>
                </a:solidFill>
                <a:latin typeface="Futura Hv BT"/>
              </a:rPr>
              <a:t>(+ di 8 ettari)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Futura Hv BT"/>
              </a:rPr>
              <a:t>Emirati Arabi,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Futura Hv BT"/>
              </a:rPr>
              <a:t>USA, Canada, Norvegia, Kuwait, Australia, ….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Nazioni che “consumano” </a:t>
            </a:r>
            <a:r>
              <a:rPr b="1" i="1" lang="it-IT" sz="2600" spc="-1" strike="noStrike">
                <a:solidFill>
                  <a:srgbClr val="ff0000"/>
                </a:solidFill>
                <a:latin typeface="Futura Hv BT"/>
              </a:rPr>
              <a:t>molto</a:t>
            </a: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 </a:t>
            </a:r>
            <a:r>
              <a:rPr b="1" lang="it-IT" sz="2600" spc="-1" strike="noStrike">
                <a:solidFill>
                  <a:srgbClr val="669900"/>
                </a:solidFill>
                <a:latin typeface="Futura Hv BT"/>
              </a:rPr>
              <a:t>(circa 4 ettari)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Futura Hv BT"/>
              </a:rPr>
              <a:t>Italia, Russia, Giappone, Svizzera, Spagna, Francia, …</a:t>
            </a:r>
            <a:r>
              <a:rPr b="1" lang="it-IT" sz="2800" spc="-1" strike="noStrike">
                <a:solidFill>
                  <a:srgbClr val="000000"/>
                </a:solidFill>
                <a:latin typeface="Futura Hv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Futura Hv BT"/>
              </a:rPr>
              <a:t>Nazioni povere, che non hanno niente da “consumare” </a:t>
            </a:r>
            <a:r>
              <a:rPr b="1" lang="it-IT" sz="2600" spc="-1" strike="noStrike">
                <a:solidFill>
                  <a:srgbClr val="669900"/>
                </a:solidFill>
                <a:latin typeface="Futura Hv BT"/>
              </a:rPr>
              <a:t>(meno di 1 ettaro) </a:t>
            </a:r>
            <a:r>
              <a:rPr b="1" lang="it-IT" sz="2000" spc="-1" strike="noStrike">
                <a:solidFill>
                  <a:srgbClr val="000000"/>
                </a:solidFill>
                <a:latin typeface="Futura Hv BT"/>
              </a:rPr>
              <a:t>Etiopia, Burundi, Vietnam, Mozambico, Perù, India,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872720" y="909360"/>
            <a:ext cx="5867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Futura Hv BT"/>
              </a:rPr>
              <a:t>Le impronte nel m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771560"/>
            <a:ext cx="7772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Il territorio di Augusta  è un’area con una delicata situazione ambi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Da alcuni anni si sta cercando di migliorare la qualità dell’ambiente, per vivere in un luogo più bello, più pulito e più s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L’Amministrazione comunale, tra le varie iniziative, ha deciso di attivare un nuovo servizio per la raccolta differenziata dei rifiuti, con la certezza che ogni cittadino, famiglia e attività commerciale possano dare un importante contributo per vivere meglio e rendere la città più b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880920"/>
            <a:ext cx="8642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GoudySans Blk BT"/>
              </a:rPr>
              <a:t> </a:t>
            </a: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Il Comune di Augusta e il tema de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773360"/>
            <a:ext cx="7772400" cy="2663640"/>
          </a:xfrm>
          <a:prstGeom prst="rect">
            <a:avLst/>
          </a:prstGeom>
          <a:solidFill>
            <a:srgbClr val="3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Futura Hv BT"/>
              </a:rPr>
              <a:t>La raccolta differenziata dei rifiuti contribuisce in modo decisivo a ridurre l’Impronta Ecolog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Futura Hv BT"/>
              </a:rPr>
              <a:t>Ed è a portata di ogni cittad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2920" y="6313320"/>
            <a:ext cx="428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La Raccolta Differenziata dei rifiu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1916280"/>
            <a:ext cx="82072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raccolta stradale con </a:t>
            </a:r>
            <a:r>
              <a:rPr b="1" lang="it-IT" sz="2000" spc="-1" strike="noStrike">
                <a:solidFill>
                  <a:srgbClr val="669900"/>
                </a:solidFill>
                <a:latin typeface="Futura Hv BT"/>
              </a:rPr>
              <a:t>contenitori per carta e cartone, plastica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raccolta stradale </a:t>
            </a:r>
            <a:r>
              <a:rPr b="1" lang="it-IT" sz="2000" spc="-1" strike="noStrike">
                <a:solidFill>
                  <a:srgbClr val="669900"/>
                </a:solidFill>
                <a:latin typeface="Futura Hv BT"/>
              </a:rPr>
              <a:t>vetro e lattine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1" lang="it-IT" sz="2000" spc="-1" strike="noStrike">
                <a:solidFill>
                  <a:srgbClr val="669900"/>
                </a:solidFill>
                <a:latin typeface="Futura Hv BT"/>
              </a:rPr>
              <a:t>raccolta domiciliare presso i </a:t>
            </a:r>
            <a:r>
              <a:rPr b="1" i="1" lang="it-IT" sz="2000" spc="-1" strike="noStrike">
                <a:solidFill>
                  <a:srgbClr val="669900"/>
                </a:solidFill>
                <a:latin typeface="Futura Hv BT"/>
              </a:rPr>
              <a:t>commercianti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del centro storico di carta e cart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i contenitori dedicati alla RD saranno organizzati in </a:t>
            </a:r>
            <a:r>
              <a:rPr b="1" lang="it-IT" sz="2000" spc="-1" strike="noStrike">
                <a:solidFill>
                  <a:srgbClr val="669900"/>
                </a:solidFill>
                <a:latin typeface="Futura Hv BT"/>
              </a:rPr>
              <a:t>165 Punti di Raccolta Ecologici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, dislocati in funzione dei cittadini che gravitano in una certa zo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Obiettivo: raggiungere il 35% di RD sul totale rifiuti nel 20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765000"/>
            <a:ext cx="83534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GoudySans Blk BT"/>
              </a:rPr>
              <a:t> </a:t>
            </a:r>
            <a:r>
              <a:rPr b="0" lang="it-IT" sz="3200" spc="-1" strike="noStrike">
                <a:solidFill>
                  <a:srgbClr val="009900"/>
                </a:solidFill>
                <a:latin typeface="Futura Hv BT"/>
              </a:rPr>
              <a:t>La raccolta differenziata cura l’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00"/>
                </a:solidFill>
                <a:latin typeface="Futura Hv BT"/>
              </a:rPr>
              <a:t>(il nuovo servizio ad Augus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640" y="1485720"/>
            <a:ext cx="7162560" cy="3455640"/>
          </a:xfrm>
          <a:prstGeom prst="rect">
            <a:avLst/>
          </a:prstGeom>
          <a:solidFill>
            <a:srgbClr val="387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Futura Hv BT"/>
              </a:rPr>
              <a:t>Buona raccolta differenziata a Voi e alle Vostre famigli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555920"/>
            <a:ext cx="77724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Grazie al sostegno fornito della società pubblica che gestisce la discarica a Cave di Costa Gigia (Greenambiente), l’Amministrazione comunale di Augusta vuo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ridurre la produzione dei rifiuti prodotti e avviati in discar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aumentare le quantità dei materiali (carta, plastica, vetro e lattine) da recupera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utura Hv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Futura Hv BT"/>
              </a:rPr>
              <a:t>attivare iniziative di educazione ambientale per salvaguardare l’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880920"/>
            <a:ext cx="85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Futura Hv BT"/>
              </a:rPr>
              <a:t> </a:t>
            </a:r>
            <a:r>
              <a:rPr b="1" lang="it-IT" sz="3200" spc="-1" strike="noStrike">
                <a:solidFill>
                  <a:srgbClr val="009900"/>
                </a:solidFill>
                <a:latin typeface="Futura Hv BT"/>
              </a:rPr>
              <a:t>La raccolta differenziata cura l’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7560"/>
            <a:ext cx="7772400" cy="2954160"/>
          </a:xfrm>
          <a:prstGeom prst="rect">
            <a:avLst/>
          </a:prstGeom>
          <a:solidFill>
            <a:srgbClr val="38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rebuchet MS"/>
              </a:rPr>
              <a:t>Uno dei metodi per essere più consapevoli del problema dei rifiuti e del ruolo che hanno nella vita sul Pianeta, è quello di misurare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Trebuchet MS"/>
              </a:rPr>
              <a:t>l’impronta ecolog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80808"/>
                </a:solidFill>
                <a:latin typeface="Futura Hv BT"/>
              </a:rPr>
              <a:t>Cos’è </a:t>
            </a:r>
            <a:r>
              <a:rPr b="1" lang="it-IT" sz="4800" spc="-1" strike="noStrike" u="sng">
                <a:solidFill>
                  <a:srgbClr val="ff0000"/>
                </a:solidFill>
                <a:uFillTx/>
                <a:latin typeface="Futura Hv BT"/>
              </a:rPr>
              <a:t>l’impronta ecologica</a:t>
            </a:r>
            <a:r>
              <a:rPr b="1" lang="it-IT" sz="4800" spc="-1" strike="noStrike">
                <a:solidFill>
                  <a:srgbClr val="080808"/>
                </a:solidFill>
                <a:latin typeface="Futura Hv BT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2944800"/>
            <a:ext cx="7740720" cy="3508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388764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80808"/>
                </a:solidFill>
                <a:latin typeface="Futura Hv BT"/>
              </a:rPr>
              <a:t>L’impronta ecologica misura quanto ciascuno di noi “consuma la ter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Futura Hv BT"/>
              </a:rPr>
              <a:t>E’ un “indicatore ambientale” per capire quanto il nostro stile di vita è “compatibile” con il Pianeta che ci osp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10748" t="0" r="12480" b="0"/>
          <a:stretch/>
        </p:blipFill>
        <p:spPr>
          <a:xfrm>
            <a:off x="4427640" y="1373040"/>
            <a:ext cx="4500360" cy="4287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8920" y="1052640"/>
            <a:ext cx="4033800" cy="52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80808"/>
                </a:solidFill>
                <a:latin typeface="Futura Hv BT"/>
              </a:rPr>
              <a:t>L’Impronta ecologica si misura in </a:t>
            </a:r>
            <a:r>
              <a:rPr b="1" lang="it-IT" sz="3200" spc="-1" strike="noStrike">
                <a:solidFill>
                  <a:srgbClr val="ff0000"/>
                </a:solidFill>
                <a:latin typeface="Futura Hv BT"/>
              </a:rPr>
              <a:t>“ettari”.</a:t>
            </a:r>
            <a:r>
              <a:rPr b="1" lang="it-IT" sz="3200" spc="-1" strike="noStrike">
                <a:solidFill>
                  <a:srgbClr val="080808"/>
                </a:solidFill>
                <a:latin typeface="Futura Hv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80808"/>
                </a:solidFill>
                <a:latin typeface="Futura Hv BT"/>
              </a:rPr>
              <a:t>Ci dice </a:t>
            </a:r>
            <a:r>
              <a:rPr b="1" lang="it-IT" sz="3200" spc="-1" strike="noStrike">
                <a:solidFill>
                  <a:srgbClr val="ff0000"/>
                </a:solidFill>
                <a:latin typeface="Futura Hv BT"/>
              </a:rPr>
              <a:t>quanto territorio</a:t>
            </a:r>
            <a:r>
              <a:rPr b="1" lang="it-IT" sz="3200" spc="-1" strike="noStrike">
                <a:solidFill>
                  <a:srgbClr val="080808"/>
                </a:solidFill>
                <a:latin typeface="Futura Hv BT"/>
              </a:rPr>
              <a:t> (terra e acqua) serve per produrre tutte le risorse che consumia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1160" y="765000"/>
            <a:ext cx="4435200" cy="554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1467000"/>
            <a:ext cx="864072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Futura Hv BT"/>
              </a:rPr>
              <a:t>L’impronta ecologica “misura” quello che mangiamo, i nostri vestiti,le nostre case, l’utilizzo delle automobili, del televisore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Futura Hv BT"/>
              </a:rPr>
              <a:t>Ci dice quanti alberi servono per produrre l’ossigeno che consumiamo, quanto mare per pescare il pesce che mangiamo, quante foreste per il legno e la carta che usiamo ogni giorno 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186920" y="909360"/>
            <a:ext cx="6836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9900"/>
                </a:solidFill>
                <a:latin typeface="Futura Hv BT"/>
              </a:rPr>
              <a:t>Cosa “misuriamo”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3056" r="0" b="46731"/>
          <a:stretch/>
        </p:blipFill>
        <p:spPr>
          <a:xfrm>
            <a:off x="-36360" y="4941720"/>
            <a:ext cx="7129440" cy="13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8:11:59Z</dcterms:created>
  <dc:creator>Mariani Alessandro</dc:creator>
  <dc:description/>
  <dc:language>en-US</dc:language>
  <cp:lastModifiedBy>Mazzata</cp:lastModifiedBy>
  <dcterms:modified xsi:type="dcterms:W3CDTF">2008-04-16T06:01:51Z</dcterms:modified>
  <cp:revision>839</cp:revision>
  <dc:subject/>
  <dc:title>I servizi alle scuole</dc:title>
</cp:coreProperties>
</file>